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bomb.wav" ContentType="audio/x-wav"/>
  <Override PartName="/ppt/media/image10.wmf" ContentType="image/x-wmf"/>
  <Override PartName="/ppt/media/image3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0178-7FB9-4EF8-ABB5-A00546C3ED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A98E-ADD8-4361-A893-7F5400B4E5C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3B46-0664-4D0C-B84F-187A4820E3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B08D-8A1A-444F-87E9-DAD1381B15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EA2F-24E6-4EE9-A2AC-D5862D98F0B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91F-B945-461F-89ED-1E31210723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D850-3935-4CBB-97DB-E63151A4D10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6ECC-1657-4C75-B4C7-FD7F2EDE913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0EDE-06DD-47BF-B84D-25E6875F6F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A03E-64F3-4362-9901-E767C4D53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3253-B9C1-4FCF-9117-E87637CB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783-33CC-4F70-B625-A89F7BEC8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9043-7D1A-46CB-8EAC-3B9F8B92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3F7F-7110-46FD-B922-F99F96A9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0A7B-F393-4EBA-AB70-4EBFA39F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E2B7-594A-477E-BBB6-8944C70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7FE7-D0ED-4A26-9A34-F0C17DEE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04E1-267C-4F07-9B5E-542DC8FC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0DC31-B563-4B64-8B4E-067EFF03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4863-7A43-4F54-9749-B2D6D4F1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606A-9223-42D1-A5B0-23E31F73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409C-D8FC-4386-B5DB-EB17216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125DB-BF7C-4E20-B2F3-B161E8AE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21EC-EAAF-4BFE-B1C7-F2490BF6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42EA-6153-4A72-820F-BA26929B5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6602-13AE-4870-928B-6DAB1C4D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6301-5180-463D-87C5-F18E24B21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1B8-AA6C-4976-AD0E-4396FB4D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914-D339-4B12-A70B-E4BBAE04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B91-D360-48C8-BF2F-F52D9BF55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F31-E2C2-49AA-8469-C98EBDE2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7B3-A87C-40E3-A071-52D7440E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F8FC-B90A-4E0A-9AF3-CC332D68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68C8-B0BF-4976-AC1F-8F262167D8B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35BD-1943-4CDB-AC77-B857C5D832BB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audio" Target="../media/bomb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-463680" y="1060560"/>
            <a:ext cx="9998280" cy="2431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med" advTm="8000">
    <p:wheel spokes="8"/>
    <p:sndAc>
      <p:stSnd>
        <p:snd r:embed="rId2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rite subject is P.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C:\Program Files\Microsoft Office\MEDIA\CAGCAT10\j0299763.wmf"/>
          <p:cNvPicPr/>
          <p:nvPr/>
        </p:nvPicPr>
        <p:blipFill>
          <a:blip r:embed="rId2"/>
          <a:stretch/>
        </p:blipFill>
        <p:spPr>
          <a:xfrm>
            <a:off x="3733920" y="2438280"/>
            <a:ext cx="4871880" cy="4008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 favorite  book is LittleCats (Zoo books) by John Wuxi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C:\Program Files\Microsoft Office\MEDIA\CAGCAT10\j0332364.wmf"/>
          <p:cNvPicPr/>
          <p:nvPr/>
        </p:nvPicPr>
        <p:blipFill>
          <a:blip r:embed="rId2"/>
          <a:stretch/>
        </p:blipFill>
        <p:spPr>
          <a:xfrm>
            <a:off x="4191120" y="3024360"/>
            <a:ext cx="3276360" cy="26413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favorite place  Japan, Tokyo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2" descr="C:\Program Files\Microsoft Office\MEDIA\CAGCAT10\j0222019.wmf"/>
          <p:cNvPicPr/>
          <p:nvPr/>
        </p:nvPicPr>
        <p:blipFill>
          <a:blip r:embed="rId2"/>
          <a:stretch/>
        </p:blipFill>
        <p:spPr>
          <a:xfrm>
            <a:off x="5029200" y="1676520"/>
            <a:ext cx="3857760" cy="3871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y  favorite  food is Appl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Picture 2" descr="C:\Program Files\Microsoft Office\MEDIA\CAGCAT10\j0217698.wmf"/>
          <p:cNvPicPr/>
          <p:nvPr/>
        </p:nvPicPr>
        <p:blipFill>
          <a:blip r:embed="rId2"/>
          <a:stretch/>
        </p:blipFill>
        <p:spPr>
          <a:xfrm>
            <a:off x="2362320" y="2971800"/>
            <a:ext cx="5257800" cy="38862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erson I want to meet Miranda Cosgrov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5" name="Picture 2" descr="C:\Program Files\Microsoft Office\MEDIA\CAGCAT10\j0216724.wmf"/>
          <p:cNvPicPr/>
          <p:nvPr/>
        </p:nvPicPr>
        <p:blipFill>
          <a:blip r:embed="rId2"/>
          <a:stretch/>
        </p:blipFill>
        <p:spPr>
          <a:xfrm>
            <a:off x="5181480" y="2971800"/>
            <a:ext cx="3124440" cy="3465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 am afraid of Jesu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Cloud"/>
          <p:cNvSpPr/>
          <p:nvPr/>
        </p:nvSpPr>
        <p:spPr>
          <a:xfrm>
            <a:off x="1447920" y="4033800"/>
            <a:ext cx="6629400" cy="282420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 advTm="8000">
    <p:wheel spokes="8"/>
    <p:sndAc>
      <p:stSnd>
        <p:snd r:embed="rId2" name="bomb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want to join the Air For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Picture 2" descr="C:\Program Files\Microsoft Office\MEDIA\CAGCAT10\j0233070.wmf"/>
          <p:cNvPicPr/>
          <p:nvPr/>
        </p:nvPicPr>
        <p:blipFill>
          <a:blip r:embed="rId2"/>
          <a:stretch/>
        </p:blipFill>
        <p:spPr>
          <a:xfrm>
            <a:off x="1295280" y="2895480"/>
            <a:ext cx="6248520" cy="3132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wheel spokes="8"/>
    <p:sndAc>
      <p:stSnd>
        <p:snd r:embed="rId3" name="bomb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4:40Z</dcterms:created>
  <dc:creator> pc#8</dc:creator>
  <dc:description/>
  <dc:language>en-US</dc:language>
  <cp:lastModifiedBy> </cp:lastModifiedBy>
  <dcterms:modified xsi:type="dcterms:W3CDTF">2009-11-12T20:01:20Z</dcterms:modified>
  <cp:revision>8</cp:revision>
  <dc:subject/>
  <dc:title>Who am I</dc:title>
</cp:coreProperties>
</file>